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64CC-75C1-4C2E-81A2-C12200B17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07F6-079D-419C-B9D4-9CD01E8D9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6D1F-ACEA-468A-AE81-790278073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FC2C-DD82-4F7C-BF75-A04E4879E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395B-1B48-4D2C-8EE1-FEE97A8A0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F855-1720-4A6E-92E0-7319300DA8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2264-5AB4-4C82-90C8-312B35137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4E17-588B-48AE-9305-02D8F6B079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AFE3-204F-4C55-9B51-FCF667DE7C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8165-410B-4689-9A88-B3E3432F03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F510-6D8E-4E65-A418-4B0147720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BC8B-275E-4CC9-B918-8B36E2A89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31A5-AB8B-4C26-8B58-1737D242E9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6192-3B7E-440C-A01D-F0C404E79E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7805-9F8D-4604-AA5A-931741B4B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73EF-CDFA-410F-A8B3-2B8F2332E5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7709-AAF4-4FB1-B150-8961D99B53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AC9-8CEF-4CE1-98D7-159F98F1BC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E29-649F-430D-A3E1-55FC3BE59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331-C44E-4A24-BDD5-A86E9588C2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C4C-0719-4C69-8D5A-EEFE909CF9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C1F-AC4D-4FBA-B3CA-4A0F45086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93FE-6194-4255-8A42-8599D5F48F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30F-C148-4B14-8961-720323579C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679-6E2D-4FBD-AAD1-5F83923E57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CD9-293F-4F5D-A4C8-50A20E28F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3A2-DAF6-432A-9463-A132729E50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7A1-D112-4C2C-8306-1AA4FC5D98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34C-81C3-4CB0-AB0F-EE3A656B9A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53E-D327-436F-880F-22D0E0517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C9B4-6372-4BB7-8884-6BB8CF15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8D8E-68CE-4C5D-9EA6-4BEDC06DA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2586-D9E5-4045-B92F-7E6AE543E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92E2-D345-4F82-B3D8-C6FD05B72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9C00-2535-4F0A-9E46-A8670CFBD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5011-F411-4C58-B367-D6F108747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6FA2-284D-4A63-B748-459FD5FE5E43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1DFA-5693-444A-BFA8-B28CE1455FB8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9BB-4630-4C89-9040-82FF50B73B7C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DA98-D327-4DF5-9831-F802F5964C7E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5363640" y="112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2000" y="83664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am Ass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anie 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FD02-E3F7-4250-A82D-42846635BB2E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A762-E481-413C-A295-04373E4195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5231-C12F-4BAE-BFD3-BE842DAED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27E7-B0B9-4A0A-BFDF-84502C4C0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73F7-C3CF-4248-8E53-45BEC25071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1E2C-EF5C-4D21-BDC5-B2FD8A284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56EC-E685-4C5B-9A6C-ADE53BCCD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98440" y="40464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  <a:ea typeface="文鼎中黑"/>
              </a:rPr>
              <a:t>RDQ VA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55736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for loc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Support for Headquart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Electrical Engineering, HW/S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 Engine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nagement Support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ompati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21B1-7387-4508-9D1E-36880B71D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22T16:48:38Z</dcterms:modified>
  <cp:revision>332</cp:revision>
  <dc:subject/>
  <dc:title>PHE R&amp;D Organization Charts</dc:title>
</cp:coreProperties>
</file>